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742AF-4E8E-4E8C-BAD1-E0A08A7EB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A815C-CBE7-4BE4-B2EB-4D7ACC77C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F7EEA-3D23-451F-A135-331FD2174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B9927-1E31-47B9-BD35-C92A7ADCF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6262D-35B0-4906-9814-B76215742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5B613-28CF-46F8-9B0B-F32BA5271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7B7EF-F88B-446C-91F7-555EDAA87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B84E9-D0A9-4B90-8BCC-53FE092D9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FD5EB-8BFB-4BD3-9DA4-260DDD1ED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D6D6A-BB85-44D1-9BD5-E0463B675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224AC-B271-4AE4-8E2C-481465278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3306-A648-4661-9715-E8B8848A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FFFD2-F7B7-4217-8A8A-7FB0221E3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74DA0-5C8E-42C7-899D-F8A599051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B6289-2FD3-4149-A193-9128AFAE4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06A4C-403F-4984-AA91-989179E36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8941A-8888-42C4-8DDC-35B234A9F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EDA53-4EC9-44B9-A9EF-7E9CDD1BD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B41E0-DA8C-49E4-91A8-96D5DAD98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2090F6-ABAE-4F75-BD73-E7DBBC708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73331-64F9-4E16-8810-725401E24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67CAF-7B87-452D-89CD-5A2E347CD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ADD25-3C89-455D-B89F-76646B764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41900-37C6-4D7A-A620-63F934233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84559-5B40-4CCF-AF89-800BE2949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38344-E9A5-4245-93C7-EF9C726A0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1D7ED-7BF0-43D9-AEA5-7DAEB32A0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B782A-5483-4DAC-BCB8-1F52695BF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CA976-269A-4063-B441-C43F7D74D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C6D83F-7A46-46E6-98D4-91A8906D7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E328DA-BB0A-4C71-BBFE-F90E57072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42A547-FFBB-44ED-9F0E-D8F37CB64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FEB94-CD65-4C54-9EB8-293A47AEE7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A3CF-C930-481A-9501-9A19C8EF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5E1EC-3842-46C0-9845-2ED202236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A029C0-5A91-4868-82E4-742DD6F82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32911-FDB5-446B-B0F8-B87212939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3291E-CFC3-4956-80C1-BFBE2B0DF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A85ED-752F-423F-84EC-9A3BD7E97E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593941-A0FA-4BBA-B691-9C6375EB49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9BA675-D755-4403-A9A0-F2C6288D9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898A7F-6640-4321-8670-A3DC06787D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C0A48-981F-496D-B66F-079FD6109D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9B7B3-0E09-4398-9863-BD0C0F06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A2BF7-0CD4-487C-A9EF-942DA3C3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D94E-89AD-4332-981D-DC6368AE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8F09-3B28-4CDA-8BAE-573357C8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8295E-C27E-46C5-B8A8-5CA27C33A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7EC-D508-4F8B-AB30-32C3956D5C3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DEF8-C99F-4CDE-8B72-59F07F7FC35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7F88-807A-40A4-BC50-BD2A4E29B62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2556-A415-4C82-853F-FC13060FF49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entistry – Past and Present</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earliest references to teeth and dental diseases are inscriptions written on clay tablets around 5000 years ago in Mesopotamia. The first known dentist was Hesi-Re. He lived in Egypt around 3000 years ago, and was described as “the greatest of the physicians who treat teeth.” In ancient times, dental treatment consisted mainly of tooth cleaning and perhaps some tooth extractions. Dentures (false teeth) first appeared in Sidon (Lebanon) and Tuscany around 630 BC. Here , gold bands and wires were used to attach false teeth (usually carved from ivory) to adjacent healthy teeth. The Romans were very oral hygiene-conscious. They washed their teeth and cleaned them with tooth powders (dentifrices).  In ancient Greece and Rome, as in Egypt, dentistry was performed by general physicians.</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est of the lesson may be found in the textbook “English in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ntu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ntifric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iou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coct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cilla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dodontic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sthodontic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iodontic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thodontic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dodontic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691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MENT OF DENTIST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NTISTRY AND RELATED BRANC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SONAL SKILLS AND QUALITIES REQUIRED FOR A FUTURE DENTI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the prefixes im-, un-, in-, and dis- to form words opposite to:</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perativ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f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cessary</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rti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equately</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ly</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vable</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tablish</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correct tense:</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student (give up) smoking recentl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re she (work) when she (leave) that facult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cientists (consider) new results of genetic engineering now.</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therapy (show) promise in treating some disease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the patient (try) to explain his symptoms, the dentist (listen) to him attentively.</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 weeks ago, many practitioners (take) part in this important congres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the doctor (tell) her the news, she (go) home satisfie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correct tense:</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prepare) their exercises at a quarter to nine yesterda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physician always (use) different techniques while working on some assignmen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 teacher was sure that he (give) the right advi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start) negotiations as soon as that pharmaceutical company (offer) a better de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rofessor (write) on the blackboard when the students (come) 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check) the results of this research so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hat words can be derived from the following:</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oci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e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imu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er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ufactu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quir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hoose the right word for each pair of words:</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ronical or chronic depress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nsient or transitory p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nsfer or transmit disea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deficiency or lack?</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e or strong mental disorder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 or humane genetic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1:34:29Z</dcterms:modified>
  <cp:revision>40</cp:revision>
  <dc:subject/>
  <dc:title>Slide 1</dc:title>
</cp:coreProperties>
</file>